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jpeg" ContentType="image/jpeg"/>
  <Override PartName="/ppt/media/image19.gif" ContentType="image/gif"/>
  <Override PartName="/ppt/media/image41.jpeg" ContentType="image/jpe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9.gif" ContentType="image/gif"/>
  <Override PartName="/ppt/media/image30.jpeg" ContentType="image/jpeg"/>
  <Override PartName="/ppt/media/image12.gif" ContentType="image/gif"/>
  <Override PartName="/ppt/media/image24.jpeg" ContentType="image/jpeg"/>
  <Override PartName="/ppt/media/image35.gif" ContentType="image/gif"/>
  <Override PartName="/ppt/media/image5.gif" ContentType="image/gif"/>
  <Override PartName="/ppt/media/image38.jpeg" ContentType="image/jpeg"/>
  <Override PartName="/ppt/media/image40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4.gif" ContentType="image/gif"/>
  <Override PartName="/ppt/media/image33.jpeg" ContentType="image/jpeg"/>
  <Override PartName="/ppt/media/image37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0.gif" ContentType="image/gif"/>
  <Override PartName="/ppt/media/image13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4.gif" ContentType="image/gif"/>
  <Override PartName="/ppt/media/image31.jpeg" ContentType="image/jpeg"/>
  <Override PartName="/ppt/media/image3.png" ContentType="image/png"/>
  <Override PartName="/ppt/media/image23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4FB7-8AB2-4157-B100-DEAFCAC0E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329E-8D7E-400C-9D29-1BC86D572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DB3-4ED9-444C-B783-AA407EA621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008-0534-47E6-9F5D-1DF7C433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018-2090-48F8-B9ED-6E2E12D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E3D04-37FC-40D1-BE9C-72DFDDE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CF4F2-3E33-43B1-B7FF-135D9FF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48CA5-8936-4FD2-AEA3-00F8FEE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01DA1-36C1-477A-8DE2-DE346C7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C8F47-871C-444A-82D2-CA68D0B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D5F0F-368F-4F90-8EAA-BE62249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5001D-C937-44A8-A7E9-F07BEC70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64C27-3F42-4486-8927-7DE81E28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AA54C-301A-4265-8DA3-2C42A029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1A3-8DD7-498F-A02B-E01A1AE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421-EA19-48E0-9E61-3BC5CA5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0D57-706D-4BE3-A3B1-C296008B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F98F-F9A8-484C-A481-99B6B125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B3920-047F-4F1D-BD3F-F18DA25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6C9DC-F281-4AA6-A66B-6E5CFA6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A98C5-019E-4CF6-BDBF-EDEE0854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56993-66D6-48EE-B3FF-0C9A50C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2BFD-61EE-4768-A586-0B1508B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D3C-0036-4C63-B699-6F99BAE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CF21D-AB3E-48D6-BCD7-FD02DEA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43664-0F1B-4F26-BE46-3B89001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B741-788E-4B45-AA0F-5187CD44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16063-49F1-484D-802F-79A228C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14FCF-F207-42D6-AA6F-443D1B4D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B1DB-A02D-4D41-AEF9-4AE71186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C220-B71B-432D-8AAF-C02E265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7315-5D85-4D69-9BA3-CAF96194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57B1-4F20-4543-913B-F73E0531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6B29-160B-4D96-92CB-7FC7F00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2BA-02CA-4D82-A8AF-C94EF757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08D4-D0FE-4F69-99B1-050A7242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64EC-99C4-4805-A697-65B9BD0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68A6-24A8-404C-A383-887E5B71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3E6D-55D9-491C-9152-3B939D3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0FBF-5D75-4D63-8092-DFB10D7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7D5A-97F7-4DF4-9B24-1BEC5158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D381-6D93-4C39-8C9D-E302698B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D1C42-1F6F-4DA2-86FE-41E13B1A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5E8B9-D79A-4217-B3DD-375E136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F3D57-6960-4DBD-8743-AEBE726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EAB-CE41-42A2-ACF7-C27C6EA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FCF10-4896-43E7-AAA2-43E684D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95FA9-52E2-4AF5-9C80-48BA824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6598C-F9C4-46AD-9D6F-D43137C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A2F28-CD38-480D-87BC-5E16C67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7E9A4-4D13-46AD-AD11-B188906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663DE-C063-4D1E-A086-6D04CDC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D0A57-D93D-4069-B8A8-C748825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52E27-4F75-4B15-B657-93BD6E05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0A660-9713-4336-9704-D8F252F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8620-C871-4672-8779-3BA5CB7A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095-D3E9-4359-94BA-023EC1E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0AD7-B6FD-47C2-B2E3-E6A2DF7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97A9-2682-4778-BAEB-49C2588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CC51-0231-468C-ACF9-01700FC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58A6-9424-4A2B-BB8C-60F88427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830C-265E-416A-950F-5570347F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3861-4EE1-4791-BFB8-37E9A9E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F78C-58D2-41BB-AC91-409D728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E970-DA35-4C75-BE59-C8D43AC5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2067-5AF8-48E8-A100-443585E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41C1-6CCD-43A9-8356-F63EA423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359-9093-4AA2-A3A9-5889B42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845B-E1FE-46E1-ABD2-8E7EAA66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323D2-D1D7-43AA-A340-222F9D49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47B5-2614-492D-B6BF-6FDA965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C605-F962-4BF7-8E41-09112931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A1A4-39A3-4DDD-9615-6695ACC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2248-C8ED-4B10-AEAC-DAD201D8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5050-2439-4654-A33D-5101AC38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FC8B-BDE5-459C-98E6-129D10D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5944-BBCB-4D86-A515-93A6033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19E4-D7AB-4D73-97FD-0B504B8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BFC-3DA3-46D3-89C4-5DB1715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05954-A03C-49D9-8841-1BD6632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1BFE-8812-4DC3-A8EA-79380F17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C68D8-5B9A-43DA-9CB9-3A9F5CB6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60A3-C25A-4DF7-B0EE-DAF0F1FF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FC76-5ABA-40B9-B485-F646A8A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9F6F1-8E79-4AF1-B893-36A6CA65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7CF6-602D-4BDC-9792-9A35FB9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E766-08FE-435B-BEF6-00D5F1D5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9DF3-B68B-44C5-9E73-8EE402C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176D-887A-4F7A-9BD7-4064E83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EA6-C75E-4FFC-8D8B-9A785E65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B256C-AA29-43E3-B44F-C963A218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ADE0-1094-48CC-BC44-5048D8E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DC17-B87F-428B-AF57-09DFCF04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A2C9-84DD-47EA-A1EE-D8C12100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74EE-B146-4DC0-AF76-83230246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E7103-2EC8-4B26-9301-A7D6814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44880-7BCC-4233-9EB3-B141E149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410578-487F-4BE3-8C55-4F51677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F0E96-DAEB-4C62-8DD4-0416F9E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8168C-04AC-4F46-923C-2C84294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B31-9873-4DF8-BA59-36DF0F0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1FB64-2703-4271-AA5B-040E14DC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4CCCD-2FB4-412C-A1AC-3048703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7E02D-0D35-43C3-99C1-3C62D3E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9DDF2-90BE-4992-B187-148B657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270FB-6DB8-45EB-8218-071B6031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5E370-BABF-4AD7-8B0B-58350046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2B73C-3882-4A6A-963E-B7726AD6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07B0E-F4FA-46C7-9604-1A73708A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445A1-CB94-47A2-83EC-76EDBEEA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12703-7A6B-4EE4-8A2E-AC2C6D1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9E1-4795-4D9A-B68A-596322600AFA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3A80-7445-4DFF-884F-5FBB365D0A64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4C9-E76C-4CA1-9D98-42F64AFBFE3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261B-ECC8-429C-8F86-D599BF19F6E8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E3E2-64AD-48D5-948C-2DBFC9B4AC9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8AC-7FC6-485B-8969-E1AE7E3A419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187F-20A9-43A8-A70B-E2F336946F9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9DA-743C-411B-AB4D-09BBA57D13B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9CE-650D-4441-9196-4A6D41833118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21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1" descr="16_793174388.jpg"/>
          <p:cNvPicPr/>
          <p:nvPr/>
        </p:nvPicPr>
        <p:blipFill>
          <a:blip r:embed="rId1"/>
          <a:stretch/>
        </p:blipFill>
        <p:spPr>
          <a:xfrm>
            <a:off x="395280" y="620640"/>
            <a:ext cx="3930480" cy="5332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2"/>
          <p:cNvSpPr/>
          <p:nvPr/>
        </p:nvSpPr>
        <p:spPr>
          <a:xfrm>
            <a:off x="4500720" y="1428840"/>
            <a:ext cx="5072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не слых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живого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в жизни с 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стретился сво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смертные твор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ы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с каждым го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им всё силь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Иса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0"/>
          <p:cNvSpPr/>
          <p:nvPr/>
        </p:nvSpPr>
        <p:spPr>
          <a:xfrm>
            <a:off x="214200" y="642960"/>
            <a:ext cx="8929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ь себ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С каким писателем познакомились? Что узнали о его жизн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Каковы по жанру его главные произ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Кто первым начал писать басни ещё в Древней Гре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Что такое басня? Как она устрое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Назовите известные вам басни Кры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3"/>
          <p:cNvSpPr/>
          <p:nvPr/>
        </p:nvSpPr>
        <p:spPr>
          <a:xfrm>
            <a:off x="571680" y="3571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 Андреевич Кры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0"/>
          <p:cNvSpPr/>
          <p:nvPr/>
        </p:nvSpPr>
        <p:spPr>
          <a:xfrm>
            <a:off x="539640" y="17733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каз об  И.А.Крылове (тетрадь + стр.86 - 8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зительное чтение наизусть одной из басен (стр.88-92) - индивидуа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-спектакль по любимой басне -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3"/>
          <p:cNvSpPr/>
          <p:nvPr/>
        </p:nvSpPr>
        <p:spPr>
          <a:xfrm>
            <a:off x="539640" y="69228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 Андреевич Крыл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395280" y="1844640"/>
            <a:ext cx="84297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лся 2 февраля в Москве, много читал и считался одним из самых просвещенных людей своего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-за бедности семьи   Крылову с десяти лет пришлось работать писцом в Тверском суде..  В 11 лет написал первую басн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1786 года пишет пьесы, издаёт сатирический журнал «Почта духов», но басни—главные произведения писателя. Девять книг  включают более 200 басе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812 стал библиотекарем только что открывшейся Публичной библиоте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прослужил 30 лет, выйдя в отставку в 1841. Много работал по составлению библиографических указателей и славяно-русского словар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9 ноября  1844 в возрасте 75 лет Крылов скончался. Похоронен в Петербур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285840" y="2428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биографии пис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7"/>
          <p:cNvSpPr/>
          <p:nvPr/>
        </p:nvSpPr>
        <p:spPr>
          <a:xfrm>
            <a:off x="642960" y="714240"/>
            <a:ext cx="7572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сня — это небольшой стихотворный рассказ, состоящий из двух ча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b5353"/>
                </a:solidFill>
                <a:uFillTx/>
                <a:latin typeface="Arial"/>
                <a:hlinkClick r:id="rId1" action="ppaction://hlinksldjump"/>
              </a:rPr>
              <a:t>1.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Основное повеств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в </a:t>
            </a:r>
            <a:r>
              <a:rPr b="0" lang="ru-RU" sz="1800" spc="-1" strike="noStrike" u="sng">
                <a:solidFill>
                  <a:srgbClr val="db5353"/>
                </a:solidFill>
                <a:uFillTx/>
                <a:latin typeface="Arial"/>
                <a:hlinkClick r:id="rId2" action="ppaction://hlinksldjump"/>
              </a:rPr>
              <a:t>аллегоричес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 иносказательной) форме показана жизнь. Герои—животные и люди. Присутствуют </a:t>
            </a:r>
            <a:r>
              <a:rPr b="0" lang="ru-RU" sz="1800" spc="-1" strike="noStrike" u="sng">
                <a:solidFill>
                  <a:srgbClr val="db5353"/>
                </a:solidFill>
                <a:uFillTx/>
                <a:latin typeface="Arial"/>
                <a:hlinkClick r:id="rId3" action="ppaction://hlinksldjump"/>
              </a:rPr>
              <a:t>сати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лицетворение, эзопов язы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. Мора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учительный вывод из основного повествования,  который даётся в начале или в конце бас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8" descr="0fc859584c08c38f7dff5e31628f1424.gif"/>
          <p:cNvPicPr/>
          <p:nvPr/>
        </p:nvPicPr>
        <p:blipFill>
          <a:blip r:embed="rId4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6" descr="0fc859584c08c38f7dff5e31628f1424.gif"/>
          <p:cNvPicPr/>
          <p:nvPr/>
        </p:nvPicPr>
        <p:blipFill>
          <a:blip r:embed="rId5"/>
          <a:stretch/>
        </p:blipFill>
        <p:spPr>
          <a:xfrm>
            <a:off x="8064360" y="6066000"/>
            <a:ext cx="774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8"/>
          <p:cNvSpPr/>
          <p:nvPr/>
        </p:nvSpPr>
        <p:spPr>
          <a:xfrm>
            <a:off x="428760" y="71424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лего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иносказание—изображение отвлечённого понятия  через конкретный об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апример, в народной сказке хитрость  изображена через образ ли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28760" y="1857240"/>
            <a:ext cx="778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ти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злой смех, при помощи которого писатель  изображает пороки общества, чтобы их исправ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апример, И.А.Крылов  через историю Вороны и Лисицы говорит о том, что нельзя верить всему, что тебе говоря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500040" y="3214800"/>
            <a:ext cx="6929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цетвор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наделение человеческими качествами животных, оживление предметов, явлений приро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апример, в стихотворении Ф.И.Тютчева оживают  времена го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има недаром злится. Прошла её п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есна в окно стучится и гонит со двора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Рисунок 11" descr="4677931ddbb3b6e74d62e9389505b30a.gif"/>
          <p:cNvPicPr/>
          <p:nvPr/>
        </p:nvPicPr>
        <p:blipFill>
          <a:blip r:embed="rId1"/>
          <a:stretch/>
        </p:blipFill>
        <p:spPr>
          <a:xfrm>
            <a:off x="281160" y="5778360"/>
            <a:ext cx="779400" cy="592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9"/>
          <p:cNvSpPr/>
          <p:nvPr/>
        </p:nvSpPr>
        <p:spPr>
          <a:xfrm>
            <a:off x="642960" y="5072040"/>
            <a:ext cx="814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зопов язы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умение замаскировать  главную мыс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по имени греческого баснописца Эзоп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Рисунок 10" descr="9f3cc160d353b3503bbc08acbacc0c27.gif"/>
          <p:cNvPicPr/>
          <p:nvPr/>
        </p:nvPicPr>
        <p:blipFill>
          <a:blip r:embed="rId2"/>
          <a:stretch/>
        </p:blipFill>
        <p:spPr>
          <a:xfrm>
            <a:off x="5214960" y="550080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571680" y="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926400" y="3143160"/>
            <a:ext cx="2217600" cy="33577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2571840" y="0"/>
            <a:ext cx="5786280" cy="70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ж сколько раз твердили миру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то лесть гнусна, вредна; но только всё не впро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в сердце льстец всегда отыщет угол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роне где-то Бог послал кусочек сыр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ель Ворона взгромоздясь, позавтракать было совсем уж собралас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 призадумалась, а сыр во рту держ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ту беду Лиса близёхонько бежа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друг сырный дух Лису останов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сица видит сыр, Лисицу сыр плени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утовка к дереву на цыпочках подходи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тит хвостом, с Вороны глаз не свод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оворит так сладко, чуть дыш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Голубушка, как хороша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 что за шейка, что за глазк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казывать, так, право, сказк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пёрышки!  Какой носок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, верно, ангельский быть должен голосок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ой, светик, не стыдись! Что, ежели, сестриц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красоте такой и петь ты мастерица,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 ты б у нас была царь-птица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щуньина с похвал вскружилась голо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радости в зобу дыханье спёрло,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на приветливы Лисицыны с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рона каркнула во всё воронье горл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ыр выпал—с ним была плутовка так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214200" y="0"/>
            <a:ext cx="285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РОНА И ЛИС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8" descr="4677931ddbb3b6e74d62e9389505b30a.gif"/>
          <p:cNvPicPr/>
          <p:nvPr/>
        </p:nvPicPr>
        <p:blipFill>
          <a:blip r:embed="rId3"/>
          <a:stretch/>
        </p:blipFill>
        <p:spPr>
          <a:xfrm>
            <a:off x="706320" y="5778360"/>
            <a:ext cx="70812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364320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6" descr="fe9dc6951702b5e6b224166e1c4bded0.gif"/>
          <p:cNvPicPr/>
          <p:nvPr/>
        </p:nvPicPr>
        <p:blipFill>
          <a:blip r:embed="rId4"/>
          <a:stretch/>
        </p:blipFill>
        <p:spPr>
          <a:xfrm>
            <a:off x="4786200" y="4214880"/>
            <a:ext cx="2132280" cy="24400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8" descr="3ddbcc0dd8ce46c5290c80251b000008.gif"/>
          <p:cNvPicPr/>
          <p:nvPr/>
        </p:nvPicPr>
        <p:blipFill>
          <a:blip r:embed="rId5"/>
          <a:stretch/>
        </p:blipFill>
        <p:spPr>
          <a:xfrm>
            <a:off x="1928880" y="1214280"/>
            <a:ext cx="1500120" cy="26704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9" descr="8cb9c869e7a8180c01fb490a4e809d9f.gif"/>
          <p:cNvPicPr/>
          <p:nvPr/>
        </p:nvPicPr>
        <p:blipFill>
          <a:blip r:embed="rId6"/>
          <a:stretch/>
        </p:blipFill>
        <p:spPr>
          <a:xfrm>
            <a:off x="642960" y="714240"/>
            <a:ext cx="1252440" cy="12528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2" descr="30d0341fba49cd3f1c5a5b99c22bd247.gif"/>
          <p:cNvPicPr/>
          <p:nvPr/>
        </p:nvPicPr>
        <p:blipFill>
          <a:blip r:embed="rId7"/>
          <a:stretch/>
        </p:blipFill>
        <p:spPr>
          <a:xfrm>
            <a:off x="357120" y="2571840"/>
            <a:ext cx="1785960" cy="25826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4" descr="e08d5c04cd8ada891b19ca41e9d94453.gif"/>
          <p:cNvPicPr/>
          <p:nvPr/>
        </p:nvPicPr>
        <p:blipFill>
          <a:blip r:embed="rId8"/>
          <a:stretch/>
        </p:blipFill>
        <p:spPr>
          <a:xfrm>
            <a:off x="7072200" y="1643040"/>
            <a:ext cx="1689120" cy="27147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6" descr="ccdb4e357928918de4d01ae60b892233.gif"/>
          <p:cNvPicPr/>
          <p:nvPr/>
        </p:nvPicPr>
        <p:blipFill>
          <a:blip r:embed="rId9"/>
          <a:stretch/>
        </p:blipFill>
        <p:spPr>
          <a:xfrm>
            <a:off x="3857760" y="1571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7" descr="95ede55943addb3a7d3a4048e95a63f1.gif"/>
          <p:cNvPicPr/>
          <p:nvPr/>
        </p:nvPicPr>
        <p:blipFill>
          <a:blip r:embed="rId10"/>
          <a:stretch/>
        </p:blipFill>
        <p:spPr>
          <a:xfrm>
            <a:off x="6929280" y="4929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8" descr="626bc3773f20329cd538bae15b559b05.gif"/>
          <p:cNvPicPr/>
          <p:nvPr/>
        </p:nvPicPr>
        <p:blipFill>
          <a:blip r:embed="rId11"/>
          <a:stretch/>
        </p:blipFill>
        <p:spPr>
          <a:xfrm>
            <a:off x="5929200" y="571680"/>
            <a:ext cx="1990800" cy="9284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9"/>
          <p:cNvSpPr/>
          <p:nvPr/>
        </p:nvSpPr>
        <p:spPr>
          <a:xfrm>
            <a:off x="2500200" y="5000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АНЦ-МИН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18_TANEC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5" descr="51b1eb9fc4fccb0f70d8c46cb668b026.gif"/>
          <p:cNvPicPr/>
          <p:nvPr/>
        </p:nvPicPr>
        <p:blipFill>
          <a:blip r:embed="rId13"/>
          <a:stretch/>
        </p:blipFill>
        <p:spPr>
          <a:xfrm>
            <a:off x="2585880" y="1643040"/>
            <a:ext cx="1903680" cy="2714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20" descr="9e3f41f0b53b93230f8c7e63b3d2d29f.gif"/>
          <p:cNvPicPr/>
          <p:nvPr/>
        </p:nvPicPr>
        <p:blipFill>
          <a:blip r:embed="rId14"/>
          <a:stretch/>
        </p:blipFill>
        <p:spPr>
          <a:xfrm>
            <a:off x="1714680" y="3929040"/>
            <a:ext cx="2286000" cy="26798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8" descr="0fc859584c08c38f7dff5e31628f1424.gif"/>
          <p:cNvPicPr/>
          <p:nvPr/>
        </p:nvPicPr>
        <p:blipFill>
          <a:blip r:embed="rId15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4" descr="5447cdb8a225.jpg"/>
          <p:cNvPicPr/>
          <p:nvPr/>
        </p:nvPicPr>
        <p:blipFill>
          <a:blip r:embed="rId1"/>
          <a:stretch/>
        </p:blipFill>
        <p:spPr>
          <a:xfrm>
            <a:off x="285840" y="1500120"/>
            <a:ext cx="5767200" cy="43578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357120" y="85716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Что это за басн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6429240" y="150012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вар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Лебедь, Щука и Р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артышка и 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артышка и Зерк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лон и Мось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к и Ягнё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к на псар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трекоза и Мурав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8" descr="Lebed_chuka_rak03.jpg"/>
          <p:cNvPicPr/>
          <p:nvPr/>
        </p:nvPicPr>
        <p:blipFill>
          <a:blip r:embed="rId2"/>
          <a:stretch/>
        </p:blipFill>
        <p:spPr>
          <a:xfrm>
            <a:off x="285840" y="1285920"/>
            <a:ext cx="6021360" cy="45720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9" descr="Martishka_ochki5.jpg"/>
          <p:cNvPicPr/>
          <p:nvPr/>
        </p:nvPicPr>
        <p:blipFill>
          <a:blip r:embed="rId3"/>
          <a:stretch/>
        </p:blipFill>
        <p:spPr>
          <a:xfrm>
            <a:off x="285840" y="1285920"/>
            <a:ext cx="6072120" cy="46101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0" descr="Martishka_zerkalo01.jpg"/>
          <p:cNvPicPr/>
          <p:nvPr/>
        </p:nvPicPr>
        <p:blipFill>
          <a:blip r:embed="rId4"/>
          <a:stretch/>
        </p:blipFill>
        <p:spPr>
          <a:xfrm>
            <a:off x="285840" y="1214280"/>
            <a:ext cx="6072120" cy="47149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1" descr="i_kalend3-fev2004_3.jpg"/>
          <p:cNvPicPr/>
          <p:nvPr/>
        </p:nvPicPr>
        <p:blipFill>
          <a:blip r:embed="rId5"/>
          <a:stretch/>
        </p:blipFill>
        <p:spPr>
          <a:xfrm>
            <a:off x="2357280" y="857160"/>
            <a:ext cx="4000680" cy="56008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12" descr="krylov13.gif"/>
          <p:cNvPicPr/>
          <p:nvPr/>
        </p:nvPicPr>
        <p:blipFill>
          <a:blip r:embed="rId6"/>
          <a:stretch/>
        </p:blipFill>
        <p:spPr>
          <a:xfrm>
            <a:off x="2357280" y="85716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13" descr="волк на псарне.jpg"/>
          <p:cNvPicPr/>
          <p:nvPr/>
        </p:nvPicPr>
        <p:blipFill>
          <a:blip r:embed="rId7"/>
          <a:stretch/>
        </p:blipFill>
        <p:spPr>
          <a:xfrm>
            <a:off x="2357280" y="500040"/>
            <a:ext cx="4084920" cy="61437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4" descr="стрекоза и муравей.jpg"/>
          <p:cNvPicPr/>
          <p:nvPr/>
        </p:nvPicPr>
        <p:blipFill>
          <a:blip r:embed="rId8"/>
          <a:stretch/>
        </p:blipFill>
        <p:spPr>
          <a:xfrm>
            <a:off x="2357280" y="500040"/>
            <a:ext cx="4102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6"/>
          <p:cNvSpPr/>
          <p:nvPr/>
        </p:nvSpPr>
        <p:spPr>
          <a:xfrm>
            <a:off x="285840" y="857160"/>
            <a:ext cx="56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знаем героя по реплик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7"/>
          <p:cNvSpPr/>
          <p:nvPr/>
        </p:nvSpPr>
        <p:spPr>
          <a:xfrm>
            <a:off x="214200" y="128592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Ты всё пела? Это дел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поди же попляш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А…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то он?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углу, припав за уксусным бочонком…трудится над курчонк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Лишь были б жёлуд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ь я от них жире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А ты, Кукушечка, мой с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тянешь плавно и протяж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сём лесу у нас такой певицы нет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Я удавилась бы с тос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б на неё хоть чуть была похож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Рисунок 8" descr="муравей.jpg"/>
          <p:cNvPicPr/>
          <p:nvPr/>
        </p:nvPicPr>
        <p:blipFill>
          <a:blip r:embed="rId1"/>
          <a:stretch/>
        </p:blipFill>
        <p:spPr>
          <a:xfrm>
            <a:off x="4757760" y="1071720"/>
            <a:ext cx="3409920" cy="43574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1188450825_collection_of_funny_photos005_givotnie_47.jpg"/>
          <p:cNvPicPr/>
          <p:nvPr/>
        </p:nvPicPr>
        <p:blipFill>
          <a:blip r:embed="rId2"/>
          <a:stretch/>
        </p:blipFill>
        <p:spPr>
          <a:xfrm>
            <a:off x="4714920" y="1143000"/>
            <a:ext cx="3865680" cy="32860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c4f04ad11c19b360293c3a6afc057fcc.gif"/>
          <p:cNvPicPr/>
          <p:nvPr/>
        </p:nvPicPr>
        <p:blipFill>
          <a:blip r:embed="rId3"/>
          <a:stretch/>
        </p:blipFill>
        <p:spPr>
          <a:xfrm>
            <a:off x="7286760" y="3143160"/>
            <a:ext cx="2286000" cy="311796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1" descr="55d8084dbe25961e93acadadbc3b116f.gif"/>
          <p:cNvPicPr/>
          <p:nvPr/>
        </p:nvPicPr>
        <p:blipFill>
          <a:blip r:embed="rId4"/>
          <a:stretch/>
        </p:blipFill>
        <p:spPr>
          <a:xfrm>
            <a:off x="4143240" y="1857240"/>
            <a:ext cx="2820960" cy="32864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2" descr="bbbfa59a91b5c16e3b44ead57c059f5b.gif"/>
          <p:cNvPicPr/>
          <p:nvPr/>
        </p:nvPicPr>
        <p:blipFill>
          <a:blip r:embed="rId5"/>
          <a:stretch/>
        </p:blipFill>
        <p:spPr>
          <a:xfrm>
            <a:off x="4143240" y="2428920"/>
            <a:ext cx="2554560" cy="29289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802c9e3e842e5b4d1838bd4d9b08244e.gif"/>
          <p:cNvPicPr/>
          <p:nvPr/>
        </p:nvPicPr>
        <p:blipFill>
          <a:blip r:embed="rId6"/>
          <a:stretch/>
        </p:blipFill>
        <p:spPr>
          <a:xfrm>
            <a:off x="4857840" y="2071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34 0.13889 L 0.16337 -0.22592 E">
                                      <p:cBhvr>
                                        <p:cTn id="293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85 0.15417 L -0.03785 -0.17917 E">
                                      <p:cBhvr>
                                        <p:cTn id="31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10833 L -0.14619 -0.38519 E">
                                      <p:cBhvr>
                                        <p:cTn id="31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-0.14699 L -0.03646 -0.18889 E">
                                      <p:cBhvr>
                                        <p:cTn id="335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00799 0.14699 E">
                                      <p:cBhvr>
                                        <p:cTn id="357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4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214200" y="57168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чтём басн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11" descr="Slon_moska01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5840" cy="30718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4" descr="Slon_moska02.jpg"/>
          <p:cNvPicPr/>
          <p:nvPr/>
        </p:nvPicPr>
        <p:blipFill>
          <a:blip r:embed="rId2"/>
          <a:stretch/>
        </p:blipFill>
        <p:spPr>
          <a:xfrm>
            <a:off x="4714920" y="1357200"/>
            <a:ext cx="4140000" cy="31435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5"/>
          <p:cNvSpPr/>
          <p:nvPr/>
        </p:nvSpPr>
        <p:spPr>
          <a:xfrm>
            <a:off x="214200" y="1000080"/>
            <a:ext cx="442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Слон и Мось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По улицам Слона водил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Как видно, напока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Известно, что Слоны в диковинку у нас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Так за Слоном толпы зевак ходи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тколе ни возьмись, навстречу Моська 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Увидевши Слона, ну на него метатьс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И лаять, и визжать, и рвать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Ну так и лезет в драку с ним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"Соседка, перестань срамиться,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Ей Шавка говорит, - тебе ль 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Слоном возитьс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Смотри, уж ты хрипишь, а он себе ид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пере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И лаю твоего совсем не примеча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"Эх, эх! - ей Моська отвечает,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от то-то мне и духу придае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Что я, совсем без дра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огу попасть в большие забия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Пускай же говорят соба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"Ай, Моська! знать, она силь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Что лает на Слона!"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Рисунок 12" descr="Slon_moska03.jpg"/>
          <p:cNvPicPr/>
          <p:nvPr/>
        </p:nvPicPr>
        <p:blipFill>
          <a:blip r:embed="rId3"/>
          <a:stretch/>
        </p:blipFill>
        <p:spPr>
          <a:xfrm>
            <a:off x="4714920" y="1357200"/>
            <a:ext cx="4143240" cy="314640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3" descr="Slon_moska06.jpg"/>
          <p:cNvPicPr/>
          <p:nvPr/>
        </p:nvPicPr>
        <p:blipFill>
          <a:blip r:embed="rId4"/>
          <a:stretch/>
        </p:blipFill>
        <p:spPr>
          <a:xfrm>
            <a:off x="4714920" y="1357200"/>
            <a:ext cx="4119480" cy="31435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" descr="i_kalend3-fev2004_3.jpg"/>
          <p:cNvPicPr/>
          <p:nvPr/>
        </p:nvPicPr>
        <p:blipFill>
          <a:blip r:embed="rId5"/>
          <a:stretch/>
        </p:blipFill>
        <p:spPr>
          <a:xfrm>
            <a:off x="4214880" y="714240"/>
            <a:ext cx="46432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4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4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4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4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4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4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4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4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4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4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4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4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4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4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4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4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4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4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4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4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4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4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4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4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4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4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4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4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4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4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3000"/>
                                        <p:tgtEl>
                                          <p:spTgt spid="4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2:11:40Z</dcterms:created>
  <dc:creator>Test</dc:creator>
  <dc:description/>
  <dc:language>en-US</dc:language>
  <cp:lastModifiedBy>АЙБОЛИТ</cp:lastModifiedBy>
  <dcterms:modified xsi:type="dcterms:W3CDTF">2020-03-11T17:27:07Z</dcterms:modified>
  <cp:revision>65</cp:revision>
  <dc:subject/>
  <dc:title>Слайд 1</dc:title>
</cp:coreProperties>
</file>